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6F80-4FEA-4EB9-83A0-4AB6BCAF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A35A-502A-4F97-9C4C-5E65C17C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6150-F9E8-46E7-B3E4-752ECE1D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3FEA-0522-44C5-8593-C89596FAC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32D4-ECF5-4851-AC48-B923F31A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2244-2340-47A9-B70D-A00A5A99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7920-29F0-423B-8EC8-FEB6D7B6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BE21-9313-4F41-AE51-5FADFE16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F92B-AE3F-4742-8E33-69F865B8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A6DC-C439-49CA-91B2-3F4C86EF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F3B9-A49B-4925-B4E5-1580A747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D5BB-D521-4D05-B9BB-1DFD8CA5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E85D-9522-4A70-9699-F403E3D5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374A-BCED-4AAC-BD54-EECE63A4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FD50-D486-4185-A641-7E4ED667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C38A-0B6D-4585-8E49-6AF082E2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6C53-CB71-4CA2-AFA5-73B0517B2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A699-0E52-4B3D-B391-C3BF27FE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A08A-6BDC-4EE9-9279-A2C749F6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5097-47B8-4B8F-82B7-CAB71BE4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321F-3CD2-40CC-B4B6-867BE428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84B0-4DB8-4088-8014-A5689780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F0F2-CF1E-4042-8E3C-E10DC875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9B4F-67A8-4311-9A43-FE0E04DB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768C-65BA-44FB-8148-6D941E1F1B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BCBF-36F3-4862-A700-6AA31169B8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JOIN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43000" y="3733920"/>
            <a:ext cx="739152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cle proprietary JOINS / ANSI/ISO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83640" y="6095880"/>
            <a:ext cx="34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. Carmen Popes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acle Academy Lead Adju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ULL-OUTER JOI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acle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4419720"/>
            <a:ext cx="792468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in cu clauza ON (AN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ELECT e.last_name, e.department_id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.department_na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ROM   employees e 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FULL OUTER JOI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departments 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ourier New"/>
              </a:rPr>
              <a:t>O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(e.department_id=d.department_id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iseaza toate informatiile din ambele tabe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057400"/>
            <a:ext cx="48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 EXISTA FULL OUTER JOIN IN SINTAXA ORACLE PT. CA NU SE POATE PUNE + PE AMBELE PARTI ALE SEMNULUI DE EGALI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095880" y="1828800"/>
          <a:ext cx="2590920" cy="22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828800"/>
                    <a:ext cx="2590920" cy="22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Equijoin (Oracle) </a:t>
            </a:r>
            <a:r>
              <a:rPr b="1" lang="en-US" sz="3400" spc="-1" strike="noStrike">
                <a:solidFill>
                  <a:srgbClr val="330033"/>
                </a:solidFill>
                <a:latin typeface="Times New Roman"/>
              </a:rPr>
              <a:t>/</a:t>
            </a: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 Natural Join (ANSI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join (Ora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ELECT event_id, 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p.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ong_id, t.cd_numb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ROM d_play_list_items p, d_track_listings 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WHERE 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p.song_id = t.song_id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ural Join (AN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ELECT event_id, song_id , cd_numbe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ROM d_play_list_items 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NATURAL JOI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d_track_listing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Join este un equijoin care leaga cele doua tabele pe toate coloanele cu nume comun din cele doua tabele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loanele comune celor doua tabele trebuie sa aiba acelasi tip altfel rezulta ero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 e nevoie sa se foloseasca alias pt. tabel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Equijoin (Oracle) </a:t>
            </a:r>
            <a:r>
              <a:rPr b="1" lang="en-US" sz="3400" spc="-1" strike="noStrike">
                <a:solidFill>
                  <a:srgbClr val="330033"/>
                </a:solidFill>
                <a:latin typeface="Times New Roman"/>
              </a:rPr>
              <a:t>/</a:t>
            </a: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 Join…USING (ANSI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1756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join (Ora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95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ELECT event_id, 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p.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ong_id, t.cd_numb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895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ROM d_play_list_items p, d_track_listings 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895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WHERE 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p.song_id = t.song_id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in cu clauza USING (AN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95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ELECT event_id, song_id , cd_numbe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895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ROM d_play_list_items 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JOI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d_track_listing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895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USING (song_id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60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60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clauza USING se trec coloanele pe care se face join-ul. Este utila atunci cand tabelele au mai multe coloane cu nume comun dar nu dorim in conditia de join sa folosim decat o parte din aceste coloan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895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Equijoin (Oracle) </a:t>
            </a:r>
            <a:r>
              <a:rPr b="1" lang="en-US" sz="3400" spc="-1" strike="noStrike">
                <a:solidFill>
                  <a:srgbClr val="330033"/>
                </a:solidFill>
                <a:latin typeface="Times New Roman"/>
              </a:rPr>
              <a:t>/</a:t>
            </a: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 Join…ON (ANSI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join (Orac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LECT event_id, </a:t>
            </a: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p.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ong_id, t.cd_numb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OM d_play_list_items p, d_track_listings 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ERE </a:t>
            </a: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p.song_id = t.song_id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in cu clauza ON (AN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LECT event_id, song_id , cd_numbe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OM d_play_list_items p </a:t>
            </a: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JOI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d_track_listings 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ON (p.song_id=t.song_id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 clauz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se pot specifica orice fel de conditii. Se pot lega tabele care nu au coloane cu acelasi n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artesian Product (Oracle) 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/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ross Join (ANSI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tesian Product (Oracle) – e ca un equijoin la care s-a omis conditia de 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first_name, last_name, department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employees, department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 join (ANSI) – are acelasi efect ca si Cartesian Product, adica "leaga" fiecare inregistrare din prima tabela cu fiecare inregistrare din a doua tab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first_name, last_name, department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employees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ROSS JO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department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Nonequijoin (Oracle) </a:t>
            </a:r>
            <a:r>
              <a:rPr b="1" lang="en-US" sz="3400" spc="-1" strike="noStrike">
                <a:solidFill>
                  <a:srgbClr val="330033"/>
                </a:solidFill>
                <a:latin typeface="Times New Roman"/>
              </a:rPr>
              <a:t>/</a:t>
            </a: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 Join…ON (ANSI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join (Orac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ELECT e.last_name, e.salary, j.grade_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ROM   employees e, job_grades j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WHERE  e.salar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       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BETWEEN j.lowest_sal AND j.highest_s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in cu clauza ON (AN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ELECT e.last_name, e.salary, j.grade_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ROM   employees e </a:t>
            </a:r>
            <a:r>
              <a:rPr b="0" lang="en-US" sz="1700" spc="-1" strike="noStrike">
                <a:solidFill>
                  <a:srgbClr val="ff0000"/>
                </a:solidFill>
                <a:latin typeface="Courier New"/>
              </a:rPr>
              <a:t>JOI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job_grades j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ourier New"/>
              </a:rPr>
              <a:t>O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(e.salary BETWEEN j.lowest_sal AND j.highest_sa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Self Join (Oracle) </a:t>
            </a:r>
            <a:r>
              <a:rPr b="1" lang="en-US" sz="3400" spc="-1" strike="noStrike">
                <a:solidFill>
                  <a:srgbClr val="330033"/>
                </a:solidFill>
                <a:latin typeface="Times New Roman"/>
              </a:rPr>
              <a:t>/</a:t>
            </a: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 Join…ON (ANSI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join (Orac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ELECT e.last_name||' '||e.first_name AS "Angajat"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m.kast_name||' '||m.first_name AS "Manager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ROM employees e, employees 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WHERE e.manager_id=m.employee_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in cu clauza ON (AN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ELECT e.last_name||' '||e.first_name AS "Angajat"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m.kast_name||' '||m.first_name AS "Manager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ROM employees e </a:t>
            </a:r>
            <a:r>
              <a:rPr b="0" lang="en-US" sz="1700" spc="-1" strike="noStrike">
                <a:solidFill>
                  <a:srgbClr val="ff0000"/>
                </a:solidFill>
                <a:latin typeface="Courier New"/>
              </a:rPr>
              <a:t>JOI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employees 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ourier New"/>
              </a:rPr>
              <a:t>O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(e.manager_id=m.employee_id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FT-OUTER JOI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acle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ELECT e.last_name, e.department_id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.department_na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ROM   employees e, departments 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WHERE  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e.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epartment_id = 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d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.department_id 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(+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867280" y="1752480"/>
          <a:ext cx="3191040" cy="10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752480"/>
                    <a:ext cx="319104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914400" y="4419720"/>
            <a:ext cx="792468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in cu clauza ON (AN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ELECT e.last_name, e.department_id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.department_na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ROM   employees e 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LEFT OUTER JOI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departments 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ourier New"/>
              </a:rPr>
              <a:t>ON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e.department_id=d.department_id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iseaza toate informatiile din tabela din STANGA (employe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33526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iseaza toti angajatii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U SAU FA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artament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, plusul e pe partea cu departament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IGHT-OUTER JOI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acle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ELECT e.last_name, e.department_id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.department_na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ROM   employees e, departments 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WHERE  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e.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epartment_id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(+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d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.department_id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4419720"/>
            <a:ext cx="792468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in cu clauza ON (AN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ELECT e.last_name, e.department_id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.department_na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ROM   employees e 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RIGHT OUTER JOI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departments 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ourier New"/>
              </a:rPr>
              <a:t>O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(e.department_id=d.department_id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iseaza toate informatiile din tabela din DREAPTA (departmen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33526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iseaza toate departamentele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U SAU FA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gajati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, plusul e pe partea cu angajat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400800" y="914400"/>
          <a:ext cx="258120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914400"/>
                    <a:ext cx="258120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18:30:48Z</dcterms:created>
  <dc:creator>carmen</dc:creator>
  <dc:description/>
  <dc:language>en-US</dc:language>
  <cp:lastModifiedBy>kome</cp:lastModifiedBy>
  <dcterms:modified xsi:type="dcterms:W3CDTF">2007-09-18T17:50:56Z</dcterms:modified>
  <cp:revision>64</cp:revision>
  <dc:subject/>
  <dc:title>SINGLE ROW FUNCTIONS</dc:title>
</cp:coreProperties>
</file>